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8093-864A-48C5-AA72-C1AD92329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iew slides 23 through 26 with your participants so they know what options they can choose from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a project from an existing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eeing Reaso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project (slide 23)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reate a new project from scratch (slides 24-2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team IDs with the wizard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reate specialized team IDs (slide 2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will go more in-depth into these in a few p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6E17-1589-4DB8-822B-E12FD6E6A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21D9-6E8E-47D1-AA36-11EC24383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DD04-A6CC-4D52-A6DF-5E157C532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BD83-2622-4289-A691-CAE3D614D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A97F-FC8B-4D73-BB2A-C5967CE4A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11E2-235B-4504-928F-571BE57A8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5080-604D-4EA9-B6EA-F4787891A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3AB7-4326-481A-BBDB-C1F7F647C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9679-D336-43A2-86F6-A61529612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CF71-7583-44E7-B4F0-728153B00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4734-2A17-4737-B0CE-795C0D6F2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FA44-1004-4AD5-A51F-0747B081F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3C71-CAB3-46FF-8771-96F2C21F0FF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hyperlink" Target="http://www.intel.com/education/showingevidence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etting Up Expectations for an Argument – </a:t>
            </a:r>
            <a:br>
              <a:rPr sz="18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06–9.0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derstand the parts of an argumen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aim: What you are trying to prove or persua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idence: Facts or data that support or oppose a clai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Quality of the evid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the source reliable and credible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accurate is the evidenc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trength of the evidence to support or oppose the claim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soning for why the evidence supports or opposes the clai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2556-1F03-42C2-B965-11BAE86366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Using the Showing Evidence Tool to Targe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Reviewing a Sample Case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09–9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the Unit Summary and Curriculum Framing Question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 to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b site: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roject Exampl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it Plan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and then 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pace: Why do we explo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the questions with a partne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3203-67F4-4263-9F04-61CCC8ECF5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Discussing Rating Rubrics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11–9.1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Evaluation of Evidence Quality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n page 9.1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would this rubric help students to better rate and evaluate evidenc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types of elements you would want to include in a rubric for your own subject area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Evaluation of the Evidence Strength on page 9.14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would this rubric help students build a better argument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is important about evidence that opposes a claim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other criteria and qualifiers you would want to include for your own subject area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79C3-7303-4835-B8A3-CF2B998AAC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5: Determining Acceptable 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1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subject areas required different evid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will you incorporate the idea of considering the intended audience when making an argumen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is the lowest acceptable number of source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ould all evidence be considered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o you expect direct quote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ill you require a minimum number of quote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047B-82EA-4E86-9C1D-8BBA560E34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6: Evaluating the Claim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9.16–9.1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the Evaluation of Claim rub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about poor quality evidence that strongly supports a clai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about a lot of so-so support?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would you weigh quantity in comparison to qualit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can you relate the process of a jury decision to the evaluation of a clai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ould you make any changes to the rubric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C9DA-D8CC-4CFA-B72B-712B320347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7: Making a Conclus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1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place where students can answer the case ques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other ways can the conclusion area be used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8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viewing the Benefits of the Showing Evidence Too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1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the benefits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43FD-3006-4A61-9F87-12217A6930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8432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Reviewing the Power of the Showing Evidence Tool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20–9.2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derstand the use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s classified by Marzano’s Dimensions of Learn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4D1E-EF59-45FC-A494-F024ED6D31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523880"/>
            <a:ext cx="8237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Understanding What Makes a Good Showing Evidence Project (including group discussion)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22 – 9.2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lps student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aly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ok at the big pictu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earch hypothe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ok at different perspectiv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vestigate social iss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aluate credi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ganise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bate controversial iss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orporat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lements of a controversial issue, debatable topic, or moral or ethical dilemm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ngaging, thought provoking, and open-ended questions or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portunities for exploring conflicting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F154-EE21-4C76-B7C0-DB53ABAD28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375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Viewing Sample Projec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2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 to: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roject Exampl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nd then 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it Plan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en the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Romeo and Julie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Unit Pla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lore the live version of this cas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f time is available, review any additional example projects on your ow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B7F8-6361-478F-AFA8-CD38473A5F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37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Thinking About Your Unit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2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rainstorm Idea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ider skimming web sites for ide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 list of possible top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4BDB-2A0B-45A7-94F4-36ED2C9CA0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 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838080"/>
          <a:ext cx="8610840" cy="4459320"/>
        </p:xfrm>
        <a:graphic>
          <a:graphicData uri="http://schemas.openxmlformats.org/drawingml/2006/table">
            <a:tbl>
              <a:tblPr/>
              <a:tblGrid>
                <a:gridCol w="1833840"/>
                <a:gridCol w="67770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2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signing Proje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3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ng Curriculum Framing Questions to Suppor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5080" indent="-23508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e a practice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</a:t>
                      </a: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causal ma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5080" indent="-23508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ss and practice effective questioning techniqu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5080" indent="-23508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vide and receive feedback on project ide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C806-027D-4562-94F3-6C242CC5CB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4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Showing Evidenc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Reviewing the Needs of Your Unit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26–9.2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your Unit Pla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your “Teaching and Learning Taxonomy.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he standards you identified as ones that could possibly benefit from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or consider new objectives that could be supported by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f you do not believ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ould be a good fit for your unit, you will have the opportunity to try out an idea for a different unit during this modu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F1B5-12E5-4664-A6B8-351522808A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787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Viewing Sample Project Descriptions and Prompt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–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27–9.30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ew examples for how to write your 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HelveticaNeue-Light"/>
              </a:rPr>
              <a:t>For more examples, see ideas in Appendix 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80880" y="482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                 Showing Evidenc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0A4F-A613-4C2A-8DF7-312D66AA3E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9440" y="48708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Ideas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31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828800"/>
            <a:ext cx="85345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60a8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hare your ideas for a project incorporating th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Showing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Evidenc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vide feedback on ways to target higher order thinking skil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399960">
              <a:lnSpc>
                <a:spcPct val="100000"/>
              </a:lnSpc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5CA2-DCA6-4226-8D8A-8A409F8872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5848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82880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Considering How Best to Use the Tool 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32 – 9.3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tudents can use one of two usage models as they evaluate claims and evidenc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age Model 1: Create claims and support with evidenc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age Model 2: Analyse evidence to make a claim or form a hypothes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ED1C-1FEF-4C90-A2CD-F28CFFA1A8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Creating a Showing Evidence Project from an Existing Projec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33–9.3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the project wizard to copy an existing projec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your Curriculum Framing Questions, project priorities, and the Project Reflection Checklist, and then edit the project onlin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py the details into your Unit Pla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lete Steps 3 through 5 to create a new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ject (see next two slides)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85A9-A647-4B72-ABA0-04CB08BC45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447920"/>
            <a:ext cx="8237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Creating Your Own Project Description and Promp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35 – 9.3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en the Unit Plan template and review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priorities on pages 2.18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2.2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eview the Project Reflection Checklist on page 10.07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Rubric on page 2.15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2.16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aft the Project Description and Prompt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your map or type them directly into your Unit Pla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use is not appropriate for your unit,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 document available in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hinking Tool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 Resour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lder on the resource file si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D8B7-0475-4475-80B8-93B92F9C05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Planning Your Use of Showing Evidence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3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your Unit Pla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the following to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section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Tit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Descri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mp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spcBef>
                <a:spcPts val="7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 document available in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hinking Tools, Seeing Reason Tool Resour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lder on the resource file si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16A3-C3A6-4920-A925-622D00E8D8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5: Creating a New Showing Evidence Project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37–9.3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o to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Ent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n 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eacher Workspa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nter your teacher ID and password, and then 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Logi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the Manage Projects section, 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et up a new Showing Evidence projec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34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8C2F-252E-4ACA-A8D1-3CA515C17A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6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reating Teams IDs with the Project Wizard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3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llow instructions to use the project wizard to create team I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t least two teams for the practic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ign a reviewing team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7: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reating Specialized Student Team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3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llow instructions to enter team IDs individu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t least two teams for the practic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ign a reviewing tea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fter creating team IDs, record your team IDs and password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8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hanging Showing Evidence Label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–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4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38DD-4AC1-4225-8B12-72A323AAB9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derstanding Best Practices with Showing Evidence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41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860a8"/>
                </a:solidFill>
                <a:latin typeface="Verdana"/>
              </a:rPr>
              <a:t>Step 1 – Viewing Instructional Strategie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elect Instructional Strategies and review categories of interest including Planning a Project, Implementing a Project, Assessing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View resources and articles on the Toulmin Model of Argument and other information on evaluating arguments available from www.tmd.com.au/education/thinking/resour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Step 2 – Viewing Visual Ranking Project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intel.com/education/au/showingevidence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elect Project Examples, and review projects that integrate the Showing Evidence Tool in either Project Ideas or Unit Pla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2B0D-71E5-4B93-AAC7-C26D2B3DF9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9 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Using the Showing Evidence Tool to Target Thinking Skil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derstand how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upports the argumentation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rate evid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best uses for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 up 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roj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5A85-DAAE-499F-AD89-4878E394B8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4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9 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ummary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26960" y="1866960"/>
          <a:ext cx="8237520" cy="380988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9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33613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search shows that, regardless of grade level or subject, argumentation skills extend lear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argument model used by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consists of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aking a clai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viding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valuating the quality of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aking explicit links between a claim and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viding reasoning for why evidence supports a clai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counterargu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aking a conclu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2D62-FB0A-4E95-96D7-653222240B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387360"/>
            <a:ext cx="82375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10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nsidering the Showing Evidence Tool for Your Un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effective questioning techniqu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se cases and Unit Pla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experien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D025-1FB8-4D63-B76A-2066C740AF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479D-3B6F-4FAF-ADBB-842EA3A71B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1066680"/>
          <a:ext cx="8237520" cy="1539720"/>
        </p:xfrm>
        <a:graphic>
          <a:graphicData uri="http://schemas.openxmlformats.org/drawingml/2006/table">
            <a:tbl>
              <a:tblPr/>
              <a:tblGrid>
                <a:gridCol w="1830240"/>
                <a:gridCol w="6407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265F-7B1A-480C-A817-2A4A7D75E9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9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ing the Showing Evidence Tool to Target Thinking Skill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1120" y="152388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54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and discuss a unit that integrates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the format of an argument and how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supports the argumentation proces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how to review and rate evidenc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and discuss ideas for incorporating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nto your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velop and share a project idea that use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roject onli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4091040" cy="409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EE95-AE8F-416B-9493-89F450A715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ooking at Showing Evidence in Ac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Considering Argumentation in the Classroo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01–9.0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epares students for real-world problem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lps students develop higher order thinking skil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reases students’ content knowledg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ncourages thoughtful student discuss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EB0F-B6D1-4457-BB4A-3A2B260F01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ooking at Showing Evidence in Ac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Taking a Look at the Format of an Argument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02–9.0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aim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idence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Quality of evidence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inks between the claim and evidence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soning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unterargu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378E-F646-41A0-BDB5-857EFA75E2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ooking at Showing Evidence in Ac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928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Look Closely at Your Showing Evidence Case – </a:t>
            </a:r>
            <a:br>
              <a:rPr sz="18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04–9.0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Focus on the elements of an argument and discuss your initial experience with the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Too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information would you have liked to know prior to starting your work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what ways did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help you to refine and evaluate your idea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979E-F4FA-40FD-BBBF-AD8219864A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Digging Deeper Into Argu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9.0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different ways do you create and support the construction and evaluation of arguments in your classroo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t what points do they have problems in creating and supporting a clear argumen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do you address these problem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BE49-E5A2-44BE-91C7-AA645F95B4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7:59Z</dcterms:modified>
  <cp:revision>175</cp:revision>
  <dc:subject/>
  <dc:title>Presentation Title Goes Here</dc:title>
</cp:coreProperties>
</file>